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EA3-01F7-476B-91FD-7A303219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9B9A-4BED-42AC-AA04-93B98AA8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911-1BB9-472A-B555-E9CEE89D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89B9-0CAB-4CCD-ABBC-635CC0FF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EB4C-B831-46BC-B05A-8C96E167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D560-3F1B-4FAA-9298-012F3AEE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8059-4A23-433B-ABC1-6FFE1551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F5E3-A944-41FD-929C-FE246AD3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F742-2E18-43E4-8C13-1BD315FC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58F5-41F3-4331-A341-1B36ECBC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8249-EE20-4FD7-ADDF-9390895E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1AA-BB05-4ABF-942D-A9DF81BF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AF6C-F36C-4913-B082-096951265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Wol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u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Wol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the world of wolves. These are facts all about wolves and pictures that follow al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not common to see a wolf just prancing around in your backy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lves are known to live in colder, more far away pla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wolves are the most endangered wolves, and may be extinct soon.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267000" cy="4876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Wol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lves are really a cool and interesting an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diet contains hoofed animals, and sometimes smaller anim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owl to their pack mates to transport messages to them from miles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many different types of wolves- (Red wolf, White wolf, Black wolf, Timber wolf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 the ancestors of the modern day dog. They are the biggest canine in the fam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4191120" cy="3359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Wol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ever see a wild wolf, never try to get up close with it or touch it. You never know if that wolf will get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people who have experienced living with wild wolves (Shawn Ellis, famous Irish wolf watcher)--------------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y wolves resemble German shepherds, and malam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save a wolf by just donating dollars a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3124080" cy="2819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2:30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17T15:35:24Z</dcterms:modified>
  <cp:revision>8</cp:revision>
  <dc:subject/>
  <dc:title>Wolves</dc:title>
</cp:coreProperties>
</file>